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66D40-DC5F-4599-94DB-69E704D4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B3D71A-56C1-41BF-9EB0-8AA0E76B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52292-C255-427A-B7A4-1E959CCD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C0B94-9AC7-42CC-9B09-D376B7BA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AE1BE-675A-45C6-9784-B852F6F1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74E3BA-3FCC-4A55-89C8-8AF76767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F27B5-6D42-419B-A221-CC5BFF42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731F0-F827-4405-89E9-DA9AC4F6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03A97-5BD0-49B0-AAAC-71893165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0CDFE-9913-47E1-9E52-FE120618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A0198-E246-453C-9D51-95A5FD36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D66C-219B-4578-9B9D-ED4097042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0C5E-6ED1-4BC3-A856-92E6AC869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B7F7-CE41-4E6A-AD37-CA0176049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5909-981F-476E-AF9A-66CD6DC76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EB81-5870-4956-8BA0-C4634F1B2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B460-72CA-4B2D-B69F-6688870F9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A97D-3001-4F23-A457-5D6C3FE0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0761-18F1-43B1-9EBF-3AAA00647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6F3B-F1DC-415B-88D2-44E4D398B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6344-95CE-47F7-95B9-0CF6DED0D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DEA4-D8B7-418A-B214-E1C1F2ABC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63D6-BA12-4969-98BF-11073B9FB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C7E5F-809A-4A70-A04D-519DBE0F0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jpeg"/><Relationship Id="rId8" Type="http://schemas.openxmlformats.org/officeDocument/2006/relationships/image" Target="../media/image8.jpeg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very sad because the love of her life is gone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8195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30481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30481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32767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5053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5053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5053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73392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meo          Tybalt           Nurse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3"/>
          <p:cNvSpPr/>
          <p:nvPr/>
        </p:nvSpPr>
        <p:spPr>
          <a:xfrm>
            <a:off x="2590920" y="3276720"/>
            <a:ext cx="5486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n’t stand this creeper! He’s really freaking me out. Why is he so anxious to marry me? I don’t know what to do!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4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rse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y we need to talk about the party last night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5"/>
          <p:cNvSpPr/>
          <p:nvPr/>
        </p:nvSpPr>
        <p:spPr>
          <a:xfrm>
            <a:off x="2590920" y="5105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was really nice “talking” with you at the party. I want to see you again sometim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1676520"/>
          <a:ext cx="1524240" cy="1093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936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want you to know where I am Cause then you'll see my heart In the saddest state it's ever been. This is no place to try and live my life“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1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457200" cy="646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"/>
          <p:cNvPicPr/>
          <p:nvPr/>
        </p:nvPicPr>
        <p:blipFill>
          <a:blip r:embed="rId6"/>
          <a:stretch/>
        </p:blipFill>
        <p:spPr>
          <a:xfrm>
            <a:off x="152280" y="5562720"/>
            <a:ext cx="37800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3" descr="juliet.jpg"/>
          <p:cNvPicPr/>
          <p:nvPr/>
        </p:nvPicPr>
        <p:blipFill>
          <a:blip r:embed="rId7"/>
          <a:stretch/>
        </p:blipFill>
        <p:spPr>
          <a:xfrm>
            <a:off x="228600" y="53352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tybalt.jpg"/>
          <p:cNvPicPr/>
          <p:nvPr/>
        </p:nvPicPr>
        <p:blipFill>
          <a:blip r:embed="rId8"/>
          <a:stretch/>
        </p:blipFill>
        <p:spPr>
          <a:xfrm>
            <a:off x="609480" y="5562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nurse_juliet.jpg"/>
          <p:cNvPicPr/>
          <p:nvPr/>
        </p:nvPicPr>
        <p:blipFill>
          <a:blip r:embed="rId9"/>
          <a:srcRect l="4545" t="0" r="40918" b="55120"/>
          <a:stretch/>
        </p:blipFill>
        <p:spPr>
          <a:xfrm>
            <a:off x="1219320" y="5562720"/>
            <a:ext cx="536400" cy="54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juliet.jpg"/>
          <p:cNvPicPr/>
          <p:nvPr/>
        </p:nvPicPr>
        <p:blipFill>
          <a:blip r:embed="rId10"/>
          <a:stretch/>
        </p:blipFill>
        <p:spPr>
          <a:xfrm>
            <a:off x="1981080" y="2527200"/>
            <a:ext cx="609840" cy="498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7"/>
          <p:cNvSpPr/>
          <p:nvPr/>
        </p:nvSpPr>
        <p:spPr>
          <a:xfrm>
            <a:off x="25909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in a terrible mood. I don’t feel like my self without him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2590920" y="380988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wishing she wouldn’t have to do what her parents want all the time. Why can’t it be about me for just this one tim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5" descr="nurse_juliet.jpg"/>
          <p:cNvPicPr/>
          <p:nvPr/>
        </p:nvPicPr>
        <p:blipFill>
          <a:blip r:embed="rId11"/>
          <a:srcRect l="4545" t="0" r="40918" b="55120"/>
          <a:stretch/>
        </p:blipFill>
        <p:spPr>
          <a:xfrm>
            <a:off x="2057400" y="4419720"/>
            <a:ext cx="536400" cy="54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juliet.jpg"/>
          <p:cNvPicPr/>
          <p:nvPr/>
        </p:nvPicPr>
        <p:blipFill>
          <a:blip r:embed="rId12"/>
          <a:stretch/>
        </p:blipFill>
        <p:spPr>
          <a:xfrm>
            <a:off x="1981080" y="3809880"/>
            <a:ext cx="609840" cy="49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juliet.jpg"/>
          <p:cNvPicPr/>
          <p:nvPr/>
        </p:nvPicPr>
        <p:blipFill>
          <a:blip r:embed="rId13"/>
          <a:stretch/>
        </p:blipFill>
        <p:spPr>
          <a:xfrm>
            <a:off x="1981080" y="3200400"/>
            <a:ext cx="609840" cy="49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4" descr="tybalt.jpg"/>
          <p:cNvPicPr/>
          <p:nvPr/>
        </p:nvPicPr>
        <p:blipFill>
          <a:blip r:embed="rId14"/>
          <a:stretch/>
        </p:blipFill>
        <p:spPr>
          <a:xfrm>
            <a:off x="2057400" y="5791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4"/>
          <p:cNvSpPr/>
          <p:nvPr/>
        </p:nvSpPr>
        <p:spPr>
          <a:xfrm>
            <a:off x="2590920" y="58672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balt to Juli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will see you at the party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52280" y="297180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uliet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52280" y="3200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ulie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52280" y="320040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152280" y="359424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3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Reading,  writing , and keeping to myself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Music, books, and  being a tee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., Relient K, and Taylor Swift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otebook, New Moon, and Remember 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y’s Anatomy, Private Practice, and B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he Twilight Saga, My Sister’s Keeper, and The Last Song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421) 867-53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5" descr="balcony.jpg"/>
          <p:cNvPicPr/>
          <p:nvPr/>
        </p:nvPicPr>
        <p:blipFill>
          <a:blip r:embed="rId7"/>
          <a:srcRect l="34128" t="0" r="37308" b="57897"/>
          <a:stretch/>
        </p:blipFill>
        <p:spPr>
          <a:xfrm>
            <a:off x="152280" y="533412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romeo-and-juliet-1968.jpg"/>
          <p:cNvPicPr/>
          <p:nvPr/>
        </p:nvPicPr>
        <p:blipFill>
          <a:blip r:embed="rId8"/>
          <a:stretch/>
        </p:blipFill>
        <p:spPr>
          <a:xfrm>
            <a:off x="152280" y="6002280"/>
            <a:ext cx="457200" cy="447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7"/>
          <p:cNvSpPr/>
          <p:nvPr/>
        </p:nvSpPr>
        <p:spPr>
          <a:xfrm>
            <a:off x="685800" y="53341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Balcony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Updated Last mont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8"/>
          <p:cNvSpPr/>
          <p:nvPr/>
        </p:nvSpPr>
        <p:spPr>
          <a:xfrm>
            <a:off x="685800" y="59436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The ball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3" descr="juliet.jpg"/>
          <p:cNvPicPr/>
          <p:nvPr/>
        </p:nvPicPr>
        <p:blipFill>
          <a:blip r:embed="rId9"/>
          <a:stretch/>
        </p:blipFill>
        <p:spPr>
          <a:xfrm>
            <a:off x="228600" y="533520"/>
            <a:ext cx="137160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52280" y="1676520"/>
          <a:ext cx="1524240" cy="1093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9368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want you to know where I am Cause then you'll see my heart In the saddest state it's ever been. This is no place to try and live my life“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85800" y="1828800"/>
            <a:ext cx="6095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85800" y="144792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 Message Conversation with The Nur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33520" y="4114800"/>
            <a:ext cx="56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g on Marri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533520" y="1447920"/>
            <a:ext cx="6400800" cy="259056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33520" y="4114800"/>
            <a:ext cx="6400800" cy="243828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22" descr="juliet.jpg"/>
          <p:cNvPicPr/>
          <p:nvPr/>
        </p:nvPicPr>
        <p:blipFill>
          <a:blip r:embed="rId5"/>
          <a:stretch/>
        </p:blipFill>
        <p:spPr>
          <a:xfrm>
            <a:off x="152280" y="457200"/>
            <a:ext cx="74628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2"/>
          <p:cNvSpPr/>
          <p:nvPr/>
        </p:nvSpPr>
        <p:spPr>
          <a:xfrm>
            <a:off x="762120" y="1905120"/>
            <a:ext cx="4572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Guess what I just heard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What? Is It good news?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You are going to marry someone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WHAT? That’s not good news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Your father said that if you don’t marry him in two days, you won’t be allowed to come hom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Oh great! This is terrible! I can’t go through with it! But if I don’t, then I won’t have anywhere to live. What should I do? Help me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I say marry him! That way you’ll have a hot husband and a roof to live under!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I’m not so sure about that. I’m already married to Romeo! I can’t sin! I don’t know what to do! Why does this have to happen to me?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Well, I’m sure you’ll figure it out. Good luck with that! I know you’ll take my advice!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: Oh yeah, thanks for helping me out…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rse: No problem sweetheart. Anything for you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can’t believe this is happening to m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762120" y="4343040"/>
            <a:ext cx="4876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 my goodness. So my parents want me to marry this total creep. I don’t like him at all. I think they just want me to marry him because he has a lot of money. I really do not want to get married right now. I’m not even fifteen yet! I should be able to make my own decisions about myself. They should not make decisions for me! I think that getting married when you are a teenager is so dumb. There is really no point to get married if I do not even like the guy! I think they would not even like him if he did not have a lot of money. This is just such a stupid situation! I need some help. He will not stop texting me and he is getting really annoying! He just needs to realize that he is not the type of guy for 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676440" y="1676520"/>
            <a:ext cx="345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nurse texted me the other day and told me this terrible new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182880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1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762120" cy="1076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9"/>
          <p:cNvSpPr/>
          <p:nvPr/>
        </p:nvSpPr>
        <p:spPr>
          <a:xfrm>
            <a:off x="1371600" y="2057400"/>
            <a:ext cx="6095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The 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lo Juliet, I would really like to hang out with you sometime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>
            <a:hlinkClick r:id="rId5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>
            <a:hlinkClick r:id="rId6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990720" y="1219320"/>
            <a:ext cx="838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4" descr="juliet.jpg"/>
          <p:cNvPicPr/>
          <p:nvPr/>
        </p:nvPicPr>
        <p:blipFill>
          <a:blip r:embed="rId7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orlando_bloom.jpg"/>
          <p:cNvPicPr/>
          <p:nvPr/>
        </p:nvPicPr>
        <p:blipFill>
          <a:blip r:embed="rId8"/>
          <a:srcRect l="25933" t="0" r="3705" b="13570"/>
          <a:stretch/>
        </p:blipFill>
        <p:spPr>
          <a:xfrm>
            <a:off x="304920" y="3727440"/>
            <a:ext cx="990360" cy="912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1"/>
          <p:cNvSpPr/>
          <p:nvPr/>
        </p:nvSpPr>
        <p:spPr>
          <a:xfrm>
            <a:off x="1523880" y="5257800"/>
            <a:ext cx="6400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Than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thanks for writing me back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523880" y="3733920"/>
            <a:ext cx="5029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The Wed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we need to talk about our wedd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0" descr="orlando_bloom.jpg"/>
          <p:cNvPicPr/>
          <p:nvPr/>
        </p:nvPicPr>
        <p:blipFill>
          <a:blip r:embed="rId11"/>
          <a:srcRect l="25933" t="0" r="3705" b="13570"/>
          <a:stretch/>
        </p:blipFill>
        <p:spPr>
          <a:xfrm>
            <a:off x="304920" y="5257800"/>
            <a:ext cx="990360" cy="9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1" descr=""/>
          <p:cNvPicPr/>
          <p:nvPr/>
        </p:nvPicPr>
        <p:blipFill>
          <a:blip r:embed="rId5"/>
          <a:stretch/>
        </p:blipFill>
        <p:spPr>
          <a:xfrm>
            <a:off x="304920" y="1828800"/>
            <a:ext cx="102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uliet.jpg"/>
          <p:cNvPicPr/>
          <p:nvPr/>
        </p:nvPicPr>
        <p:blipFill>
          <a:blip r:embed="rId6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6"/>
          <p:cNvSpPr/>
          <p:nvPr/>
        </p:nvSpPr>
        <p:spPr>
          <a:xfrm>
            <a:off x="1523880" y="182880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Juliet, I would really like to hang out with you sometime. I liked meeting you at your dance and I think that if we hung out, we would have a lot of fun. Maybe we could sneak away and just be together by ourselves for a whole day? Is that okay with you? Oh, and I meant to tell you something before I left. I am in love with the prettiest, smartest girl in the world. Do you know who that is? It’s you, Juliet. You are the most beautiful girl in the world! I would really like to know how you feel about me. If you don’t love me back, that’s okay because I just got over a girl who didn’t love me back. Her name was Roseline, but she does not matter anymore because I love you now and no one can change that. Your new friend, Romeo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9" descr="juliet.jpg"/>
          <p:cNvPicPr/>
          <p:nvPr/>
        </p:nvPicPr>
        <p:blipFill>
          <a:blip r:embed="rId3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1676520" y="1752480"/>
            <a:ext cx="4114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we need to talk about our wedding. We need to get this official really soon because I really want to be with you. And you need to stop telling everyone that you don’t like me because it is very embarrassing. Everyone thinks that I am creepy when even you know that I am a wonderful, sophisticated, wealthy man that you should love. There is no reason to wait to get married, so I think we should move the wedding up to Wednesday. I think that it will be good for us since we haven’t spent that much time together. Well, except for the long hours spent together in my dreams. ;) I wish that I could be with you right now. Maybe we can hang out sometim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fore the wedding? I think we should, but that’s entirely up to you, my love. Please reply to this message so I can tell my friends! Love, Pari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6" descr="orlando_bloom.jpg"/>
          <p:cNvPicPr/>
          <p:nvPr/>
        </p:nvPicPr>
        <p:blipFill>
          <a:blip r:embed="rId4"/>
          <a:srcRect l="25942" t="0" r="3700" b="13597"/>
          <a:stretch/>
        </p:blipFill>
        <p:spPr>
          <a:xfrm>
            <a:off x="304920" y="1752480"/>
            <a:ext cx="1143000" cy="10526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1676520" y="4267080"/>
            <a:ext cx="45720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is, I really feel like you are pushing me into marrying you. I know you really want to be with me and I guess I know that you love me and would give the world to me, but maybe we are just meant to be friends. I just don’t get why we need to be married sooner. Is there really a twenty-four hour difference? Are my parents pushing you into making me marry you earlier? Did they put you up to this? If they did, you can tell me. I really wish that you would just wait until Thursday. I really don’t think there is a difference. And, I honestly could care less if you are embarrassed by me, because I really do think that you are a creep. I tell people these things about you because I do not want to marry you! You make me feel afraid of you because you are so pushy. It’s just that you freak me out. Sorry, Juliet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3" descr="juliet.jpg"/>
          <p:cNvPicPr/>
          <p:nvPr/>
        </p:nvPicPr>
        <p:blipFill>
          <a:blip r:embed="rId5"/>
          <a:stretch/>
        </p:blipFill>
        <p:spPr>
          <a:xfrm>
            <a:off x="228600" y="4343400"/>
            <a:ext cx="13208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i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9" descr="juliet.jpg"/>
          <p:cNvPicPr/>
          <p:nvPr/>
        </p:nvPicPr>
        <p:blipFill>
          <a:blip r:embed="rId1"/>
          <a:stretch/>
        </p:blipFill>
        <p:spPr>
          <a:xfrm>
            <a:off x="152280" y="533520"/>
            <a:ext cx="83988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7"/>
          <p:cNvSpPr/>
          <p:nvPr/>
        </p:nvSpPr>
        <p:spPr>
          <a:xfrm>
            <a:off x="1905120" y="1904760"/>
            <a:ext cx="367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 Juliet, thanks for writing me back. I really wish that you said yes because my heart is broken now. I feel really bad for seeming like a creeper and a stalker, but I really like you, so I guess I just came off that way. I want to be with you really bad and it really sucks that you don’t want to be with me. I don’t know how I could live without you, Juliet! Without you, Juliet, my life is nothing. It’s just a little box in my heart that is so empty without you. Is there any way that I can get you back? Is there something I can do to make you like me? I just want you to know that I love you and you are the only girl for me. If you don’t marry me then I will just have to tell your dad. If I can’t have you, no one can! -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6" descr="orlando_bloom.jpg"/>
          <p:cNvPicPr/>
          <p:nvPr/>
        </p:nvPicPr>
        <p:blipFill>
          <a:blip r:embed="rId2"/>
          <a:srcRect l="25942" t="0" r="3700" b="13597"/>
          <a:stretch/>
        </p:blipFill>
        <p:spPr>
          <a:xfrm>
            <a:off x="304920" y="1828800"/>
            <a:ext cx="11430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Paige</cp:lastModifiedBy>
  <dcterms:modified xsi:type="dcterms:W3CDTF">2010-05-18T02:00:04Z</dcterms:modified>
  <cp:revision>91</cp:revision>
  <dc:subject/>
  <dc:title>Profile</dc:title>
</cp:coreProperties>
</file>